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6EC-31D4-4908-995C-57C78D6F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445-9690-4879-94A4-085E917A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7F1-C974-4451-9445-7D9A1F2B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6EC-B75E-404F-B46A-8A25AF67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6198-A31D-4B18-845A-65C963EF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7846-5F35-41C0-8D41-A084A30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8DB9-602A-441C-A2E6-5BA9C785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93E7-C8C8-4522-903A-1E61B3AD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F432-AD0C-4F82-831A-4AC9934A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C89-DC0C-4DC7-A99B-02CC4091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A707-4812-4FB9-8470-C6FA27E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0FC-79FA-469B-ADF0-804D0FA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9524-E91B-42E4-8E0D-424231CE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A064-72F2-45FB-BDDC-9709261B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3BAA-C665-4AFD-B9D3-F694B760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1EE3-4449-4F4F-9356-7AA1F747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245B-2CD5-4860-8241-46F02D0F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DC9-8A53-497B-86DF-7266E0AC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F93-C1AD-4E4D-9E65-4C98002D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941-C306-4F57-BE3C-02BEAFB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60F-B9C5-4F5D-A2C5-3FC2208A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D5D-BFEF-4145-A700-85DE92B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C1C-C201-4518-A9CB-6A399E2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43E-EA0E-48DB-AED2-D3BC5DAD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273-ABE4-4643-BF96-BC49FA8C41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D33F-1BDF-4921-BD6C-7B5EEE0816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10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gif"/><Relationship Id="rId8" Type="http://schemas.openxmlformats.org/officeDocument/2006/relationships/image" Target="../media/image4.jpe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tražujemo tr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Slika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8920" y="90756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 kojim je slovom točan odgovor na pitanje: “Ovisi li trenje o kakvoći dodirnih površina ?” Prepišite točnu rečenicu u bilježnic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enje klizanja ne ovisi o kakvoći dodirnih plo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enje klizanja ovisi o kakvoći dodirnih ploh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trenje klizanja javlja među površin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trenje klizanja.jpg"/>
          <p:cNvPicPr/>
          <p:nvPr/>
        </p:nvPicPr>
        <p:blipFill>
          <a:blip r:embed="rId4"/>
          <a:stretch/>
        </p:blipFill>
        <p:spPr>
          <a:xfrm>
            <a:off x="4859280" y="1989000"/>
            <a:ext cx="3355920" cy="3718080"/>
          </a:xfrm>
          <a:prstGeom prst="rect">
            <a:avLst/>
          </a:prstGeom>
          <a:ln w="0">
            <a:noFill/>
          </a:ln>
        </p:spPr>
      </p:pic>
      <p:pic>
        <p:nvPicPr>
          <p:cNvPr id="110" name="Slika 3" descr=""/>
          <p:cNvPicPr/>
          <p:nvPr/>
        </p:nvPicPr>
        <p:blipFill>
          <a:blip r:embed="rId5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50560" y="907560"/>
            <a:ext cx="84358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čnik sile trenj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i pritisne sile Fp nazivamo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faktor trenja,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μ (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grč. slovo mi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proporcionalna je pritisnoj sili pa vrijedi: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t</a:t>
            </a:r>
            <a:r>
              <a:rPr b="0" i="1" lang="hr-H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 = </a:t>
            </a:r>
            <a:r>
              <a:rPr b="0" i="1" lang="el-G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μ · </a:t>
            </a:r>
            <a:r>
              <a:rPr b="0" i="1" lang="hr-HR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F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mbria Math"/>
                <a:ea typeface="Cambria Math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v-SE" sz="3200" spc="-1" strike="noStrike">
                <a:solidFill>
                  <a:srgbClr val="000000"/>
                </a:solidFill>
                <a:latin typeface="Calibri"/>
              </a:rPr>
              <a:t>sila trenja = faktor trenja · pritisna si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3564000" y="1943280"/>
            <a:ext cx="1468440" cy="1174680"/>
          </a:xfrm>
          <a:prstGeom prst="rect">
            <a:avLst/>
          </a:prstGeom>
          <a:ln w="0">
            <a:noFill/>
          </a:ln>
        </p:spPr>
      </p:pic>
      <p:pic>
        <p:nvPicPr>
          <p:cNvPr id="115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li trenje pri kotrljanju veće ili ma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enje kotrljanja je manje od trenja kliz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Slika 3" descr=""/>
          <p:cNvPicPr/>
          <p:nvPr/>
        </p:nvPicPr>
        <p:blipFill>
          <a:blip r:embed="rId8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18" name="Slika 1" descr=""/>
          <p:cNvPicPr/>
          <p:nvPr/>
        </p:nvPicPr>
        <p:blipFill>
          <a:blip r:embed="rId9"/>
          <a:stretch/>
        </p:blipFill>
        <p:spPr>
          <a:xfrm>
            <a:off x="1258920" y="2349360"/>
            <a:ext cx="707400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9280" y="633240"/>
            <a:ext cx="878544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Automobilski motor je zatajio pa ga vozač pokušava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gurati. On može djelovati silom 400N. Sila trenja kotrljanja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iznosi 300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a) Grafički prikažite sile koje djeluju na automob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b) Kolika je ukupna sila na automobi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c) Hoće li vozač pokrenuti automobil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2. Navedite primjere korisnog i nepoželjnog tre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3. Možete li voziti romobil kada je tlo prekriveno ledom?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Objasni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4. Biste li mogli upaliti žigicu da nema trenj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1" name="Slika 1" descr=""/>
          <p:cNvPicPr/>
          <p:nvPr/>
        </p:nvPicPr>
        <p:blipFill>
          <a:blip r:embed="rId5"/>
          <a:stretch/>
        </p:blipFill>
        <p:spPr>
          <a:xfrm>
            <a:off x="12600" y="719280"/>
            <a:ext cx="1074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2500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nam se na ledu skliže, a na betonu 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nam nije jednako lako brisati gumicom po papiru i po klup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vrata škripe ako nisu podmaz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Slika 3" descr=""/>
          <p:cNvPicPr/>
          <p:nvPr/>
        </p:nvPicPr>
        <p:blipFill>
          <a:blip r:embed="rId6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33440" y="907560"/>
            <a:ext cx="8386560" cy="34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eđu dviju ploha koje se nalaze u dodiru javlja se TRE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jeluje suprotno vučnoj sili koja nastoji pokrenuti tije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izmjeriti silu tre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Slika 1" descr=""/>
          <p:cNvPicPr/>
          <p:nvPr/>
        </p:nvPicPr>
        <p:blipFill>
          <a:blip r:embed="rId5"/>
          <a:stretch/>
        </p:blipFill>
        <p:spPr>
          <a:xfrm>
            <a:off x="457200" y="4349880"/>
            <a:ext cx="74278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33080" y="1052640"/>
            <a:ext cx="8459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Sila koju u trenutku pokretanja odčitate na dinamometru jednaka je najvećoj sili trenja između ploha kvadra i sto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je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ila trenja mirovanj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kon što ste pokrenuli kvadar, kad on već klizi, dinamometar pokazuje manju silu. To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a trenja kliz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Slika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10202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O čemu ovisi trenje kliza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) Ovisi li trenje o veličini dodirnih ploh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55640" y="3673440"/>
          <a:ext cx="5816520" cy="2619360"/>
        </p:xfrm>
        <a:graphic>
          <a:graphicData uri="http://schemas.openxmlformats.org/drawingml/2006/table">
            <a:tbl>
              <a:tblPr/>
              <a:tblGrid>
                <a:gridCol w="1855800"/>
                <a:gridCol w="396072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ičina plo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a trenja F</a:t>
                      </a:r>
                      <a:r>
                        <a:rPr b="1" lang="hr-HR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jveć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ed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jma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3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94" name="Slika 1" descr=""/>
          <p:cNvPicPr/>
          <p:nvPr/>
        </p:nvPicPr>
        <p:blipFill>
          <a:blip r:embed="rId4"/>
          <a:stretch/>
        </p:blipFill>
        <p:spPr>
          <a:xfrm>
            <a:off x="250920" y="2351160"/>
            <a:ext cx="82296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836280"/>
            <a:ext cx="8362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 kojim je slovom točan odgovor na pitanje: “Ovisi li trenje o veličini dodirnih ploha?” Prepišite točnu rečenicu u bilježnic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ovisi 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eličini dodirne plohe tijela i podlo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je obrnuto proporcionaln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eličini dodirne plohe tijela i podlo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ne ovisi 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eličini dodirne plohe tijela i podlo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5400" y="8650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) Ovisi li trenje o pritisnoj sili (težini tijela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93800" y="2847960"/>
          <a:ext cx="7523280" cy="3173400"/>
        </p:xfrm>
        <a:graphic>
          <a:graphicData uri="http://schemas.openxmlformats.org/drawingml/2006/table">
            <a:tbl>
              <a:tblPr/>
              <a:tblGrid>
                <a:gridCol w="1609560"/>
                <a:gridCol w="1971720"/>
                <a:gridCol w="1970280"/>
                <a:gridCol w="1971720"/>
              </a:tblGrid>
              <a:tr h="1134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j</a:t>
                      </a:r>
                      <a:br>
                        <a:rPr sz="2800"/>
                      </a:b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d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tisna sila G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a trenja F</a:t>
                      </a:r>
                      <a:r>
                        <a:rPr b="1" lang="hr-HR" sz="2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ični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hr-HR" sz="3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81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 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99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00" name="Slika 1" descr=""/>
          <p:cNvPicPr/>
          <p:nvPr/>
        </p:nvPicPr>
        <p:blipFill>
          <a:blip r:embed="rId3"/>
          <a:stretch/>
        </p:blipFill>
        <p:spPr>
          <a:xfrm>
            <a:off x="1476360" y="1512720"/>
            <a:ext cx="56167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0920" y="836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 kojim je slovom točan odgovor na pitanje: “Ovisi li trenje o težini tijela?” Prepišite točnu rečenicu u bilježnic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proporcionaln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žini tijela, odnosno pritisnoj si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obrnuto je proporcionaln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žini tijela, odnosno pritisnoj sili.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renja ne ovisi 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žini tijela, odnosno pritisnoj si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) Ovisi li trenje o kakvoći dodirnih ploh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2781360"/>
          <a:ext cx="7523280" cy="3294000"/>
        </p:xfrm>
        <a:graphic>
          <a:graphicData uri="http://schemas.openxmlformats.org/drawingml/2006/table">
            <a:tbl>
              <a:tblPr/>
              <a:tblGrid>
                <a:gridCol w="1609560"/>
                <a:gridCol w="1971720"/>
                <a:gridCol w="1970280"/>
                <a:gridCol w="1971720"/>
              </a:tblGrid>
              <a:tr h="126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j</a:t>
                      </a:r>
                      <a:br>
                        <a:rPr sz="3200"/>
                      </a:b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dar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tisna sila G/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a trenja F</a:t>
                      </a:r>
                      <a:r>
                        <a:rPr b="1" lang="hr-HR" sz="3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ični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hr-HR" sz="36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1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 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7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 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76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 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105" name="Slika 3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9:14:19Z</dcterms:created>
  <dc:creator>Mladen Vidović</dc:creator>
  <dc:description/>
  <dc:language>en-US</dc:language>
  <cp:lastModifiedBy>MArina Dumančić</cp:lastModifiedBy>
  <dcterms:modified xsi:type="dcterms:W3CDTF">2019-09-14T13:46:33Z</dcterms:modified>
  <cp:revision>55</cp:revision>
  <dc:subject/>
  <dc:title>PowerPoint Presentation</dc:title>
</cp:coreProperties>
</file>